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22E7-F370-4331-9E29-37E4FA78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973F-F295-4D6F-A0EA-073078F2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50E7-AF12-4217-93BF-1E2CF9A5A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A332-19E3-488E-8E6C-CE8D5EB48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FC2E-BA93-4C15-B54D-E0B8CB4F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326E-C7C7-4B34-AADD-E143F786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B13A-E3C0-482E-B1C6-8EC2F7E4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3826-2C68-4626-88A7-2BCC5E13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B16B-6EC0-49C3-A9C7-59734962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19B7-7DDF-461E-AC31-1EE603CA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418D-F762-4C1A-B26D-81B8FC1F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4028-87F2-490B-81D3-82162AE1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99F530-0322-492A-BAF5-D83901399BAF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3BB7B9-71F8-4A44-9AA4-374E6D78662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obert Blakel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thing from nothing at al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smic Evolution isn’t always pret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me of My heor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914400" y="1905120"/>
            <a:ext cx="1511280" cy="1206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4"/>
          <a:stretch/>
        </p:blipFill>
        <p:spPr>
          <a:xfrm>
            <a:off x="1066680" y="3809880"/>
            <a:ext cx="1219320" cy="1600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5"/>
          <a:stretch/>
        </p:blipFill>
        <p:spPr>
          <a:xfrm>
            <a:off x="3429000" y="1752480"/>
            <a:ext cx="1308240" cy="1638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6"/>
          <a:stretch/>
        </p:blipFill>
        <p:spPr>
          <a:xfrm>
            <a:off x="3505320" y="3720960"/>
            <a:ext cx="1231920" cy="1689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7"/>
          <a:stretch/>
        </p:blipFill>
        <p:spPr>
          <a:xfrm>
            <a:off x="6019920" y="1752480"/>
            <a:ext cx="1739880" cy="1663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"/>
          <p:cNvPicPr/>
          <p:nvPr/>
        </p:nvPicPr>
        <p:blipFill>
          <a:blip r:embed="rId8"/>
          <a:stretch/>
        </p:blipFill>
        <p:spPr>
          <a:xfrm>
            <a:off x="5867280" y="3886200"/>
            <a:ext cx="16891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y Goa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4"/>
          <a:stretch/>
        </p:blipFill>
        <p:spPr>
          <a:xfrm>
            <a:off x="3352680" y="2057400"/>
            <a:ext cx="1752840" cy="1905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5"/>
          <a:stretch/>
        </p:blipFill>
        <p:spPr>
          <a:xfrm>
            <a:off x="6019920" y="2057400"/>
            <a:ext cx="2057400" cy="190512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1600200" y="47242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ke good better - for one for al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 shoul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hare the journe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e more together than apar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mpower myself by empowering oth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ll some jokes, help others sm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 spite of what VW say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nk big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ve bi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ccept no substitut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1523880" y="4419720"/>
            <a:ext cx="1600200" cy="1028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3"/>
          <a:stretch/>
        </p:blipFill>
        <p:spPr>
          <a:xfrm>
            <a:off x="5715000" y="4146480"/>
            <a:ext cx="190512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 all you d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ecome the big do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ake your bite out of lif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e cute and get lots of rub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5791320" y="2427120"/>
            <a:ext cx="1828800" cy="19814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4572000" y="3048120"/>
            <a:ext cx="304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bove all els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e yourself – who else should you b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ve yourself – if you don’t who wil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at dessert first – life is shor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ut sometimes it is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_x0010_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1219320" y="2168640"/>
            <a:ext cx="654048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 the beginn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ig Bang occurs – 13.7 billion years ag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tter and energy uncouples (13.5 byr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tter undergoes nucleosynthesis (13 byr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arth condenses, matter evolves life (&lt; 6 byr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obert is born (&lt; 60 years ago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etting better all the ti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obby discovers science – second grad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obby becomes a ner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obby blows up tennis court with rocket fu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obby redirects interests to physic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umanity explores &amp; Bob delights 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914400" y="251460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4"/>
          <a:stretch/>
        </p:blipFill>
        <p:spPr>
          <a:xfrm>
            <a:off x="4495680" y="2514600"/>
            <a:ext cx="3048120" cy="274320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1143000" y="55627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n on the moon – We as a race are on the way outwar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ction ignites imagin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3"/>
          <a:stretch/>
        </p:blipFill>
        <p:spPr>
          <a:xfrm>
            <a:off x="990720" y="2368440"/>
            <a:ext cx="2133360" cy="1524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4"/>
          <a:stretch/>
        </p:blipFill>
        <p:spPr>
          <a:xfrm>
            <a:off x="6324480" y="2209680"/>
            <a:ext cx="1828800" cy="1683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5"/>
          <a:stretch/>
        </p:blipFill>
        <p:spPr>
          <a:xfrm>
            <a:off x="3962520" y="2216160"/>
            <a:ext cx="1269720" cy="1676520"/>
          </a:xfrm>
          <a:prstGeom prst="rect">
            <a:avLst/>
          </a:prstGeom>
          <a:ln w="0">
            <a:noFill/>
          </a:ln>
        </p:spPr>
      </p:pic>
      <p:sp>
        <p:nvSpPr>
          <p:cNvPr id="60" name="TextBox 6"/>
          <p:cNvSpPr/>
          <p:nvPr/>
        </p:nvSpPr>
        <p:spPr>
          <a:xfrm>
            <a:off x="1523880" y="48006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eams motivate innovation and the endless push forwar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ek out the bes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3"/>
          <a:stretch/>
        </p:blipFill>
        <p:spPr>
          <a:xfrm>
            <a:off x="457200" y="1417680"/>
            <a:ext cx="3276720" cy="2209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4"/>
          <a:stretch/>
        </p:blipFill>
        <p:spPr>
          <a:xfrm>
            <a:off x="5181480" y="1486080"/>
            <a:ext cx="2362320" cy="236196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990720" y="464832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eaming is easier when your in with other dreamer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oys get bigger and more fun!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1143000" y="1981080"/>
            <a:ext cx="2590920" cy="1981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3"/>
          <a:stretch/>
        </p:blipFill>
        <p:spPr>
          <a:xfrm>
            <a:off x="5562720" y="1981080"/>
            <a:ext cx="2286000" cy="198144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685800" y="39625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inceton plasma fus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5715000" y="39625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ermilab particle detecto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Bob really wants to d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3"/>
          <a:stretch/>
        </p:blipFill>
        <p:spPr>
          <a:xfrm>
            <a:off x="1066680" y="1752480"/>
            <a:ext cx="2514600" cy="1447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4"/>
          <a:stretch/>
        </p:blipFill>
        <p:spPr>
          <a:xfrm>
            <a:off x="5791320" y="1752480"/>
            <a:ext cx="2286000" cy="1600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5"/>
          <a:stretch/>
        </p:blipFill>
        <p:spPr>
          <a:xfrm>
            <a:off x="1752480" y="3809880"/>
            <a:ext cx="2362320" cy="1791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6"/>
          <a:stretch/>
        </p:blipFill>
        <p:spPr>
          <a:xfrm>
            <a:off x="5479920" y="3951360"/>
            <a:ext cx="2140200" cy="1509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8"/>
          <p:cNvSpPr/>
          <p:nvPr/>
        </p:nvSpPr>
        <p:spPr>
          <a:xfrm>
            <a:off x="2895480" y="57913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ly free – fly fas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5T14:51:46Z</dcterms:created>
  <dc:creator>College of Education</dc:creator>
  <dc:description/>
  <dc:language>en-US</dc:language>
  <cp:lastModifiedBy>College of Education</cp:lastModifiedBy>
  <dcterms:modified xsi:type="dcterms:W3CDTF">2009-07-25T18:39:18Z</dcterms:modified>
  <cp:revision>12</cp:revision>
  <dc:subject/>
  <dc:title>Robert Blakely</dc:title>
</cp:coreProperties>
</file>